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DA7-4B5A-4E27-A3DC-004BD184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234-5238-45F3-A186-481E6322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98A-7379-48D1-AB5B-3EC3F80A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60C-D701-4B9C-BEEE-E60DB761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DDD-CA7C-4BAB-B4C2-E60656DE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F86-BEC6-4E49-A33E-1232683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2D1-8C95-485B-804B-ED0411B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886-A439-4CAC-BDEB-86508EAA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BAB-9DB2-41CD-8B44-E24ED68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A93-E16E-4772-8681-6BCB3E5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044-3C14-41D8-BE35-AF57E3E3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02F-91EF-4E38-8466-5CDADDD8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76A-34A0-4DCD-922E-CFA9663D1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DERS</cp:lastModifiedBy>
  <dcterms:modified xsi:type="dcterms:W3CDTF">2002-03-09T18:16:12Z</dcterms:modified>
  <cp:revision>7</cp:revision>
  <dc:subject/>
  <dc:title>Présentation PowerPoint</dc:title>
</cp:coreProperties>
</file>